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87536"/>
        <c:axId val="28776675"/>
      </c:barChart>
      <c:catAx>
        <c:axId val="438875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76675"/>
        <c:crosses val="autoZero"/>
        <c:auto val="1"/>
        <c:lblAlgn val="ctr"/>
        <c:lblOffset val="100"/>
        <c:noMultiLvlLbl val="0"/>
      </c:catAx>
      <c:valAx>
        <c:axId val="28776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875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85C-8EF8-4FC3-99F3-F35C5CCE8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3044-3540-4CD9-B053-6ABCADEC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00F5-2205-4F5F-9521-0CA7EAC0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CAF5-3734-4E0E-B5DD-DEEFBE24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D34-DEA9-4617-8B90-22AC39A6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5836-3F1E-4B5D-8078-CADC90A0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4D9F-CE66-4614-BD4F-4BA04989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3AE9-3BA8-44CC-9D24-9FAE4039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C09F-179B-4206-B3BF-24348911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6375-8C14-4B47-B77C-123B3CFB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94F8-D268-417F-8822-3C4F3D22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84F-46E2-4113-A6B1-BEBC8A4D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9C594-F74B-4816-B22E-89C6BDABE5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