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75171"/>
        <c:axId val="15465114"/>
      </c:barChart>
      <c:catAx>
        <c:axId val="12275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65114"/>
        <c:crosses val="autoZero"/>
        <c:auto val="1"/>
        <c:lblAlgn val="ctr"/>
        <c:lblOffset val="100"/>
        <c:noMultiLvlLbl val="0"/>
      </c:catAx>
      <c:valAx>
        <c:axId val="15465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75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A2D-08F7-45E6-BDBA-4A08A9AF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0F6-8DC3-41CC-BE0F-8A6063C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627-EF8C-47F2-ACBA-AB93F876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5CB-5898-485B-A80E-0E6DC925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601-D427-4D06-99AF-4A0D0167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3AA-EE47-4F23-A592-33F76224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C04-6D5E-4A93-B308-46BB52CE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ECB-B3ED-44B6-AB14-4F607FB8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E87-DBA9-4647-86BD-426A27E2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293-1428-43C7-89A4-2EE414F8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27A-67A9-489A-9BF7-397E1A5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F9A-D053-404D-A5B1-85AD6F5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6ABBA-3E65-4658-8419-20141FE9ED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