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510233"/>
        <c:axId val="80732062"/>
      </c:barChart>
      <c:catAx>
        <c:axId val="695102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732062"/>
        <c:crosses val="autoZero"/>
        <c:auto val="1"/>
        <c:lblAlgn val="ctr"/>
        <c:lblOffset val="100"/>
        <c:noMultiLvlLbl val="0"/>
      </c:catAx>
      <c:valAx>
        <c:axId val="807320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5102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79C2-65F4-4414-B386-D3B86234E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CBD4-FC3F-49F4-9AD8-392879E1A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934A-D67D-402A-8D19-CC4B0B1B8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00C8-FB95-4F80-B24F-6C738768C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57EE-2EA1-41A2-B6CB-C1425D20F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E9A9-2758-48B8-B0B8-36B4497E5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CCA6-876F-463F-832C-1AECD41AF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4D8A-2741-4D39-B207-0A8E0FECE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18A5-4D0F-4DDD-A78D-2E4F783DB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F8E1-7DF0-48A7-938F-4E2CB17F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D7B2-CE88-4A8E-B859-7CE3DDF9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4DDD-3143-4B8E-B9E5-04D92C39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872885-DD65-465D-8660-799FBA5AE50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