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89222"/>
        <c:axId val="37841444"/>
      </c:barChart>
      <c:catAx>
        <c:axId val="52489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41444"/>
        <c:crosses val="autoZero"/>
        <c:auto val="1"/>
        <c:lblAlgn val="ctr"/>
        <c:lblOffset val="100"/>
        <c:noMultiLvlLbl val="0"/>
      </c:catAx>
      <c:valAx>
        <c:axId val="37841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9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2B9-C4BD-4271-B860-CB20CC04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820-732D-4870-9EF7-FC95766F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D24-5641-4439-9DFA-95A53511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081-75F4-4B5A-93BA-B4FDCA66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B52-92E9-4309-8A9D-3E7AA934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F9B-29A8-40CE-9E2B-622EFE9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707-82E1-4870-BF2B-27FBA40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1D1-50E0-4840-8119-FDDC3A5E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F57-0B19-427F-88C4-9E968E4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E9F-EA7E-44CB-9F78-FCEA65D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1A9-55DB-47D7-AD87-93B432C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9EA-6F27-4C77-928B-3EA6A51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85C23-7EA4-4695-ADA5-1665AC0A3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