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27387"/>
        <c:axId val="68725633"/>
      </c:barChart>
      <c:catAx>
        <c:axId val="42727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25633"/>
        <c:crosses val="autoZero"/>
        <c:auto val="1"/>
        <c:lblAlgn val="ctr"/>
        <c:lblOffset val="100"/>
        <c:noMultiLvlLbl val="0"/>
      </c:catAx>
      <c:valAx>
        <c:axId val="68725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7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F8A-8EF8-427D-A62D-2D69ACFF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D6C-3588-4B13-986E-22346CBC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72B-9A01-47C3-B364-A9817C78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012-2B4E-4E6F-9A2F-67CB6CB4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BCD-E23D-406D-A479-F898A45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356-60B2-4028-A381-A87B580E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E51-1B10-4748-B577-A3F3E20E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21E-AA85-43F1-A3CF-50BA7AA6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803-5A6D-4EF6-9E94-E39F79C3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117-B942-41E7-AE26-EBFB44CF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CC70-1B12-445D-B2EB-7CA839A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98D-6FFD-4A40-98FE-DB1E9E1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2F2B8-FDE8-41C3-82C7-9B9F2AD554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