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56789"/>
        <c:axId val="69634918"/>
      </c:barChart>
      <c:catAx>
        <c:axId val="62456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4918"/>
        <c:crosses val="autoZero"/>
        <c:auto val="1"/>
        <c:lblAlgn val="ctr"/>
        <c:lblOffset val="100"/>
        <c:noMultiLvlLbl val="0"/>
      </c:catAx>
      <c:valAx>
        <c:axId val="69634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56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288-E3F7-4DB4-A181-E6CF8C20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A52-6482-4FB4-B361-D1D3233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5DA-D356-4AC5-A066-4945190F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945-CAA7-468F-9259-290AD228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560-77C6-4811-B71A-335BD734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4B7-472D-4A0E-AA75-DA1157A3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36F-8FFF-42F3-B0E5-C5E2CB0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A8E-2DAC-4745-9A07-A6CF26C1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6B6-ED84-4757-BD84-12F3CD3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394-D294-4397-92D8-847C93C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C83-5BB0-4020-A453-C7FE9C2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6E8-C7B2-45CE-8594-6F61A73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83B72-4576-4CE0-B3C3-AE5EF8CDF0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