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8752"/>
        <c:axId val="61253465"/>
      </c:barChart>
      <c:catAx>
        <c:axId val="7118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3465"/>
        <c:crosses val="autoZero"/>
        <c:auto val="1"/>
        <c:lblAlgn val="ctr"/>
        <c:lblOffset val="100"/>
        <c:noMultiLvlLbl val="0"/>
      </c:catAx>
      <c:valAx>
        <c:axId val="61253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664-A0D2-4AC8-8DB2-BD8A5533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7A2-6AC4-4E05-92EF-9B772979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5F0-8C67-4282-80E3-468AA0EE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0EA-3FAD-44AE-837E-3D9AEE4A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D41-8F85-4B28-B58D-4D7069A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252-1466-4CA6-8B57-F332F24F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8CF-D034-4C91-B6C0-AC48D480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5DA-D795-47E0-B978-E521DD0E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A98-DEC8-4E7D-A011-E3B7A06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53B-9231-4D1D-AB68-1A303F0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350-6AE9-478B-AF9B-B1DF9AA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41A-BC60-4F47-89B6-CF74A4E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79B93-A6EB-46E4-AE50-D56891BDAB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