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10598"/>
        <c:axId val="34697551"/>
      </c:barChart>
      <c:catAx>
        <c:axId val="17810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97551"/>
        <c:crosses val="autoZero"/>
        <c:auto val="1"/>
        <c:lblAlgn val="ctr"/>
        <c:lblOffset val="100"/>
        <c:noMultiLvlLbl val="0"/>
      </c:catAx>
      <c:valAx>
        <c:axId val="34697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10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E11-EEB5-4ABC-BC83-6AD2D250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0B6-4BF8-4569-A498-E1FFADB0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038-5E0D-4CED-8A5F-39D3D459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A70-CC8C-4631-BF48-26CB20B0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8AF-B402-4DDD-B213-D2FC3C3A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748-954E-4CCD-B2C8-C42EA48B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CFC-4689-4BB0-92FA-0F17DAD9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CE9-5BD2-4758-A8E2-B5354EF5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AB2-8999-41A8-93F7-CFEA1ABA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95B-6E13-43EA-84D9-79E43334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A41-7C0E-41A8-BF40-C49DFA14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F26-BB0A-4423-B793-58C2F414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B07CE-DE73-4ABF-AE3A-0BEE6D424E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