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983730"/>
        <c:axId val="94646476"/>
      </c:barChart>
      <c:catAx>
        <c:axId val="749837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646476"/>
        <c:crosses val="autoZero"/>
        <c:auto val="1"/>
        <c:lblAlgn val="ctr"/>
        <c:lblOffset val="100"/>
        <c:noMultiLvlLbl val="0"/>
      </c:catAx>
      <c:valAx>
        <c:axId val="946464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9837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08B3-3031-4763-8487-11C46709F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7AC7-BBE5-43E6-AAB3-8025E606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73A5-A8C6-4B00-B9E6-33BED05AF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DB3C-3BFA-4C1D-B9B6-6FB5CCB2F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27C6-C9DE-44DE-9F43-30CB5043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530A-3F7E-499B-B89B-5B56FF3C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A0B8-69CD-4DD7-BF4E-22314823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F1E2-5264-4125-AA24-A836A7E9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4812-EF2E-41CE-87DE-F159A89F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10E1-3DA6-40D9-91E3-DC004C5E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0DC1-6901-4530-90B7-2E86A0E1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ED5A-1891-40D1-8093-E6A4D56E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622241-CB76-4E39-9857-6B1EFB4713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