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46345"/>
        <c:axId val="33292876"/>
      </c:barChart>
      <c:catAx>
        <c:axId val="23046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92876"/>
        <c:crosses val="autoZero"/>
        <c:auto val="1"/>
        <c:lblAlgn val="ctr"/>
        <c:lblOffset val="100"/>
        <c:noMultiLvlLbl val="0"/>
      </c:catAx>
      <c:valAx>
        <c:axId val="33292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46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0AA-B59A-4DA2-909E-DD021E89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629-222B-4F9C-9138-AD81B662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CB4-DCDA-4995-805E-2E6E4780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315-5F07-4E49-B6DA-ABB792ED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525-39FC-4FFA-8857-342AA621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026-7975-440B-B83C-604E63F4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687-1C2F-430B-BE3C-2EBFE12B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3E6-FB33-45B1-AC83-928314B1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39F-CF75-4613-B003-BA94CE06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8BE-7DF0-4B40-8BD6-B457862C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3F1-A78D-4623-97BB-D3437B4C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BE3-F1C0-48CD-8AB2-C59DDA40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C6A81-2E1A-4ACD-9A80-202E81E004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