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34272"/>
        <c:axId val="70413487"/>
      </c:barChart>
      <c:catAx>
        <c:axId val="16134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13487"/>
        <c:crosses val="autoZero"/>
        <c:auto val="1"/>
        <c:lblAlgn val="ctr"/>
        <c:lblOffset val="100"/>
        <c:noMultiLvlLbl val="0"/>
      </c:catAx>
      <c:valAx>
        <c:axId val="70413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34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E94-3079-4387-979A-C5939D70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46D-27C4-4BE1-AF20-410DA2D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E5F-636A-49E5-8172-C6A673B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434-7638-41F1-A553-037556D3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922-75BB-422B-991D-FF6331E5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F26-B1B0-4650-9911-8AB2EDE9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F59-C2AF-42F5-8CE1-2940355A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EDD-E7CE-4D28-ADDF-874A01A6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1EA-7340-436F-8B68-F66C6429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970-BB8E-4D85-BE1F-D636DCD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111-C41F-45BD-AAFB-D7F72A8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2AC-EBC1-4D99-BFCB-3752E4D7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648F0-B33B-49BA-BBC4-D7A7D90C6D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