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36427"/>
        <c:axId val="89050102"/>
      </c:barChart>
      <c:catAx>
        <c:axId val="49536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50102"/>
        <c:crosses val="autoZero"/>
        <c:auto val="1"/>
        <c:lblAlgn val="ctr"/>
        <c:lblOffset val="100"/>
        <c:noMultiLvlLbl val="0"/>
      </c:catAx>
      <c:valAx>
        <c:axId val="89050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36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364-3F90-46C7-80F2-627B9114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D896-161E-4AD2-B962-7558E2BA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2D1D-8023-48BE-A3B5-363B264E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FCB7-2BDC-4394-9CDE-E33664D5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4989-40D0-4EAF-B389-D34ED10D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2BC-BA39-4386-A781-06A776AF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9317-0BF3-4F32-8197-9B76A1A8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3AB-EAA0-4718-96E5-47DCC4B8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FE6-9378-4483-AF22-147F3DC6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E45-38EA-40AD-AECC-77AF9C55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427-FEB2-4D50-BB22-447F17F4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548D-4AFB-442A-819C-3B458ECD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B870A-9517-46F4-9F49-270620F273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