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410025"/>
        <c:axId val="13984195"/>
      </c:barChart>
      <c:catAx>
        <c:axId val="684100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84195"/>
        <c:crosses val="autoZero"/>
        <c:auto val="1"/>
        <c:lblAlgn val="ctr"/>
        <c:lblOffset val="100"/>
        <c:noMultiLvlLbl val="0"/>
      </c:catAx>
      <c:valAx>
        <c:axId val="139841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100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3E7C-7815-4F73-9405-26F5D9C8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2F45-9B6A-4D77-9987-8015B0F3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5D8C-8E7E-4A25-8AD5-90441D20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33CF-817B-4072-8A9D-9828D101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31A5-C68B-4705-91F0-78BA507C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309A-903B-4C6E-82B6-8D3E1C67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77A7-5942-4AE8-B9C0-781C1F88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F45A-505C-482D-B5E0-14B41853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2373-5D6A-461B-85CC-CBD4D28C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E11D-114C-499D-B6E8-4FCEE75E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AD0E-2D5E-433B-836B-EFD3C729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D25A-DEEC-4D30-BCA0-EBD91AC6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4B9FE-55E0-4992-ADCB-A325042222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