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17473"/>
        <c:axId val="58887682"/>
      </c:barChart>
      <c:catAx>
        <c:axId val="68517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87682"/>
        <c:crosses val="autoZero"/>
        <c:auto val="1"/>
        <c:lblAlgn val="ctr"/>
        <c:lblOffset val="100"/>
        <c:noMultiLvlLbl val="0"/>
      </c:catAx>
      <c:valAx>
        <c:axId val="58887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17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61D-57F0-44BD-8EEF-60C49348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A04-05C0-4D87-A9F4-2BF75CC9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2AD-339B-4B47-A6D4-927B41B7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965-CD83-48EE-88FB-CD90E917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855-14E8-469C-9E15-8D9461B2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780-A3C3-4718-A66B-E3001E93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A64-55E9-43A0-AE4F-BABBC244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1E9-B9E3-484E-9F7E-EE89DBF7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C98-CDDD-434B-8F4E-F87E3E39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332-543A-4525-8189-2CEA9739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56B-291A-4AD9-9D52-4162C64F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0F4-92DE-432F-B936-AECDDA30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E707E-46C4-4C8A-9446-8444EB4769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