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96902"/>
        <c:axId val="73356595"/>
      </c:barChart>
      <c:catAx>
        <c:axId val="60696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56595"/>
        <c:crosses val="autoZero"/>
        <c:auto val="1"/>
        <c:lblAlgn val="ctr"/>
        <c:lblOffset val="100"/>
        <c:noMultiLvlLbl val="0"/>
      </c:catAx>
      <c:valAx>
        <c:axId val="73356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96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498-2C63-437C-A4DA-432B0EC4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69E-980E-4421-AE6B-AF204A1C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55B-CADD-479B-B632-A12F8D53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E47-6F97-45D2-9324-C91D32A2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7ED-F181-475A-85B1-C4015A90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C54-C7FC-49F7-BF4C-BF02715F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083-B995-4506-BC67-79174906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67B-675E-4209-861F-1B455A1E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3891-7106-44C8-8CD8-FA9AEE0F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D8C-AD97-4931-B33C-3ECE9405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792-69EF-4418-A560-F02DD234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9A7-A541-4D2D-A88B-269123C6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192FB-CD02-4F7A-A395-5BBA9C4ABE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