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40822"/>
        <c:axId val="96475938"/>
      </c:barChart>
      <c:catAx>
        <c:axId val="13840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5938"/>
        <c:crosses val="autoZero"/>
        <c:auto val="1"/>
        <c:lblAlgn val="ctr"/>
        <c:lblOffset val="100"/>
        <c:noMultiLvlLbl val="0"/>
      </c:catAx>
      <c:valAx>
        <c:axId val="96475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40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557-7B70-4D4D-A617-8849BEB7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0FF-F10A-46A4-A969-ACB5289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C0B-8C88-487F-A79E-0905DF4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74F-3408-463C-9B45-7F32079B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D6D-F6C3-436C-BA75-248839A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6A8-0E3F-4424-BD14-0364BFA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F96-CEE5-4928-AF48-94EE0626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0A2-03CC-4B57-B231-B05D819D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63B-71B3-4B5D-B8AC-2FC46FE8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1D5-B0A0-43C8-BAC5-8CD9C09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457-BB15-4265-BE27-34D7A99E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AC9-ABAF-4D0D-B8F6-2301526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57C5-1C03-4310-A392-340B62336C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