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758"/>
        <c:axId val="99386887"/>
      </c:barChart>
      <c:catAx>
        <c:axId val="2987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86887"/>
        <c:crosses val="autoZero"/>
        <c:auto val="1"/>
        <c:lblAlgn val="ctr"/>
        <c:lblOffset val="100"/>
        <c:noMultiLvlLbl val="0"/>
      </c:catAx>
      <c:valAx>
        <c:axId val="99386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7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B677-BE60-4300-BDA4-D8071219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9DF-E284-4560-A949-A6A0804A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8A84-3B6C-40C3-B818-90122D5B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ADCE-3C32-420A-A22E-E4E52F2A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1C0B-1988-4028-BDF2-2109EF1E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CA5C-34A4-4C5C-9419-7EF9BF24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B1D-7930-4F0C-A387-11D209CD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7A7-152B-4FB8-A369-12F0B003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2325-D7D9-4883-BBFD-C06D56C2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D88-0FB2-4F24-88F2-9137982F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1451-217A-4A6D-A10A-486A384A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495-2360-4638-8710-A51F02AF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A3152-E182-4343-A97E-984AFE3D4C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