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17877"/>
        <c:axId val="87491280"/>
      </c:barChart>
      <c:catAx>
        <c:axId val="33217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91280"/>
        <c:crosses val="autoZero"/>
        <c:auto val="1"/>
        <c:lblAlgn val="ctr"/>
        <c:lblOffset val="100"/>
        <c:noMultiLvlLbl val="0"/>
      </c:catAx>
      <c:valAx>
        <c:axId val="87491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17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5E2-E93F-4C27-AE43-DE98C220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0CD-C9DC-44F4-8D49-7B4A1CAF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B4E-1F81-4721-B7E3-C9B782BD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6F3-2B6F-4113-931F-4E4A6518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C8D-A8B0-41E9-8978-F5D5B60E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C5A-CBBD-4FC4-BBBA-5BC408DA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497-53A5-49FD-9EC4-87C60AEA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AF9-A583-47A2-99F6-31135F5F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E4F-05AB-4FC5-8FFD-77B0E29B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810-7600-420F-8A2D-3A68763D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A18-21A8-486D-8FB2-54C7DBC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F71-CFE8-427A-AD4B-ADF0312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95C4D-7277-46E1-B99E-E49FDFFD0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