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199611"/>
        <c:axId val="68464885"/>
      </c:barChart>
      <c:catAx>
        <c:axId val="491996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464885"/>
        <c:crosses val="autoZero"/>
        <c:auto val="1"/>
        <c:lblAlgn val="ctr"/>
        <c:lblOffset val="100"/>
        <c:noMultiLvlLbl val="0"/>
      </c:catAx>
      <c:valAx>
        <c:axId val="684648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1996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1D7B-5183-48C7-A7BF-5F5C54CA8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87D5-70E0-4AFA-993C-2723D4E84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D0C4-D66F-4E03-ACC4-C696DFA59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4C1D-F8CC-402C-873D-C28FD7291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C26C-067F-4B0C-9DC5-680BDD5A0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93CD-DFCF-407D-8EFF-0A02C408D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D6D3-0C73-4600-A66E-23EA69750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2245-9448-40F7-9822-AF31B80BA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E561-CE57-4F47-8C27-570B6433A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F39C-EEAF-4A21-AB15-B54CFBE7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72C8-7604-4BDE-8A5A-48602B1D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F371-80A9-4B79-859A-A2ADF257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FD0017-C254-40EB-8B2B-AB43027AB48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