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41805"/>
        <c:axId val="31179550"/>
      </c:barChart>
      <c:catAx>
        <c:axId val="65741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79550"/>
        <c:crosses val="autoZero"/>
        <c:auto val="1"/>
        <c:lblAlgn val="ctr"/>
        <c:lblOffset val="100"/>
        <c:noMultiLvlLbl val="0"/>
      </c:catAx>
      <c:valAx>
        <c:axId val="311795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41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360-34ED-4F97-902E-31DACBD4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269-AE03-44D7-814A-99420B94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0B0-77E5-4CA0-AC4F-19E15862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DDF-C1A6-4C6C-A7A3-8A597510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2BF9-95BD-4D82-BCCF-09ED86F4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27A-42C3-4787-B3A0-9C8412DD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EC6-6328-4FC9-ADC3-B2A2FB09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89B-6AEC-4B5D-9461-54E78966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5D4-FE95-4462-9566-5358BDA1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DF2-599E-493B-B6F8-50F84B27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FF9-7FF1-48EC-A646-89B43BAA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886-716A-4579-9295-FC1F0F51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A8C21-0530-40C3-82AC-81691DFC4E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