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90615"/>
        <c:axId val="46189374"/>
      </c:barChart>
      <c:catAx>
        <c:axId val="7039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89374"/>
        <c:crosses val="autoZero"/>
        <c:auto val="1"/>
        <c:lblAlgn val="ctr"/>
        <c:lblOffset val="100"/>
        <c:noMultiLvlLbl val="0"/>
      </c:catAx>
      <c:valAx>
        <c:axId val="46189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9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69A-3911-4F2C-AE8C-49045891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C61-10C5-4757-869B-CAF58C7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350-8C63-47D7-8C02-240BAC93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438-7528-4162-9E94-B35BA9B4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26C-06D3-4E6D-A4E5-5899372B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7D4-B82E-4D9B-823D-FBEC5E6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8A0-A562-4C18-A9CD-A1F5293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CB0-E4B1-43DA-8993-A2312DA9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39D-3B77-4CA7-ACDF-0EF5EB9F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892-DB1C-4AD5-948A-BF48B56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0B9-E76D-4DEE-8B2A-2CCC1DA5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F03-BC60-4753-A422-193CE53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DF730-6AD7-42B2-96B8-2B09727CC4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