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52610"/>
        <c:axId val="28335756"/>
      </c:barChart>
      <c:catAx>
        <c:axId val="38252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35756"/>
        <c:crosses val="autoZero"/>
        <c:auto val="1"/>
        <c:lblAlgn val="ctr"/>
        <c:lblOffset val="100"/>
        <c:noMultiLvlLbl val="0"/>
      </c:catAx>
      <c:valAx>
        <c:axId val="28335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52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F6F-3AD0-4BEF-A0A7-CF47169A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E44-0843-4399-A5D4-C61D0F1D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58C-2C8D-4BBA-A88C-69E4DC71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D90-B39A-4496-B3E9-D1D84DE0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27F-2F57-42EB-8727-9CD05178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B09-9381-431A-9595-DF520921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EA1-43FC-47C9-B307-A75230D7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781-F69C-4911-A106-910F60F5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DD2-26FE-4727-9569-2942FD2D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28C-7F04-4E30-98C4-C6BF8E51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E32-0923-4EC6-98C0-6ABF42F9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498-78B9-454E-B435-EC44351B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81684-4D73-4C87-8894-40B8E0897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