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93112"/>
        <c:axId val="49848307"/>
      </c:barChart>
      <c:catAx>
        <c:axId val="38993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8307"/>
        <c:crosses val="autoZero"/>
        <c:auto val="1"/>
        <c:lblAlgn val="ctr"/>
        <c:lblOffset val="100"/>
        <c:noMultiLvlLbl val="0"/>
      </c:catAx>
      <c:valAx>
        <c:axId val="49848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93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AC6-CDCA-4550-8064-08966C82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A80-8D2F-4AEA-A3CD-A01298B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1BC-7108-45F6-B3B2-4D00891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2C4-8B4A-4E13-A1F8-493F7C06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140-3627-4489-A1AA-303F488D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247-65A9-4339-9FC0-5C4F913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E36-6FC3-4D9B-9E8B-105FF14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BD8-6526-405E-85F5-CBFD670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D11-D492-496D-AACD-53F002FF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90F-F5BE-45A5-A07E-80A4179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D71-4151-491E-A4F0-E68C728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8B0-E531-4D9A-98CD-12EDF73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B544F-5044-4062-808C-27DEA5E54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