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292732"/>
        <c:axId val="97723856"/>
      </c:barChart>
      <c:catAx>
        <c:axId val="912927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23856"/>
        <c:crosses val="autoZero"/>
        <c:auto val="1"/>
        <c:lblAlgn val="ctr"/>
        <c:lblOffset val="100"/>
        <c:noMultiLvlLbl val="0"/>
      </c:catAx>
      <c:valAx>
        <c:axId val="977238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927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6532-E8ED-4F0D-89A6-8421F77C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6116-90CB-4EEC-B9E9-C3FC756C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B60F-6FEF-4D69-82E4-4A3ED9B3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BD31-6A66-4E22-B879-DFC9F707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B0A2-2C77-4E38-9F64-23D25EB2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2F02-5233-4E44-B47F-07D5BE5B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E568-6397-4EDD-AC02-6D353EA1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8114-BD8E-4CCE-A729-9671508F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58DC-16A8-47CD-9990-5F75185F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9F49-FDC4-416F-9923-1C880B60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5FA5-E90C-42ED-8E43-D33DD178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E30E-5974-47F3-9DB7-D249207F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063C0-5AFF-45EB-9F5E-AAC81D06DF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