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239719"/>
        <c:axId val="41315608"/>
      </c:barChart>
      <c:catAx>
        <c:axId val="49239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15608"/>
        <c:crosses val="autoZero"/>
        <c:auto val="1"/>
        <c:lblAlgn val="ctr"/>
        <c:lblOffset val="100"/>
        <c:noMultiLvlLbl val="0"/>
      </c:catAx>
      <c:valAx>
        <c:axId val="413156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39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A2B-2F02-4F95-AE61-B6A7FD12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AE9-F78F-4A98-87F2-FCBCBE4D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9200-D26D-4933-A0DE-34A215C3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7264-E5A4-4E2D-8B54-B2F6829E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AAC-9692-4FBE-9E87-1C146DA7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FD5E-3842-4470-A7D0-B875992B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75E-703A-42D3-AF9A-904FDB82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AE5-042C-4EA9-A3B4-439DE732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342A-8528-4EDB-8DA2-99501EEF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B47-415C-4466-83E7-27E29678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A48D-B15B-4371-AF43-CECB3640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5A3-318B-4C8C-B98D-A89AB72D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73582-99E0-4008-8D94-641220F5A1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