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66890"/>
        <c:axId val="93985879"/>
      </c:barChart>
      <c:catAx>
        <c:axId val="65766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85879"/>
        <c:crosses val="autoZero"/>
        <c:auto val="1"/>
        <c:lblAlgn val="ctr"/>
        <c:lblOffset val="100"/>
        <c:noMultiLvlLbl val="0"/>
      </c:catAx>
      <c:valAx>
        <c:axId val="93985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6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B1F-B7FF-4FE4-A7AF-3399062B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989-5B2A-4A61-B238-898BDA2E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72D-B1CA-4CF2-8615-28686385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9EF-EADB-47F7-833F-5A9EA182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61D-7897-4447-A91D-7F66C445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D54-53AE-4A33-95C0-93528F92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46A-9932-45E0-B25E-D5EC2EE0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0A5-16F4-4808-8B67-32CBDF1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116-283E-4E50-B843-11594F4F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EFE-B11D-494B-8FED-9511E6C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382-0A47-4C31-AF8C-2FA3841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CDB-45AC-41EA-9AF3-29CF4A6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15496-53AF-457F-B0F4-5713CE7AE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