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10825"/>
        <c:axId val="64307019"/>
      </c:barChart>
      <c:catAx>
        <c:axId val="93110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07019"/>
        <c:crosses val="autoZero"/>
        <c:auto val="1"/>
        <c:lblAlgn val="ctr"/>
        <c:lblOffset val="100"/>
        <c:noMultiLvlLbl val="0"/>
      </c:catAx>
      <c:valAx>
        <c:axId val="64307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0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DFAE-7DC9-4902-9D0D-3310DA60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D9B6-FB98-4FC1-8DDA-6E13A2F1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577-CF34-4A58-98C8-661D1245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748-950B-4493-90D5-5A9CE95B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BFAA-36FD-4D75-9039-213E26AD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B66D-9B2E-4E41-8B1C-006A6A1F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4E3-0858-4F59-83E9-4A0870D6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B1A-9287-4ED2-9B14-425EF80D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EE7-6C3A-4B7D-865A-8ADE3114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419-BC1A-4243-BBDC-1D637C27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E0F-BF9D-43E3-8541-5CC3C689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7A9-86EE-44E9-87F3-43F05459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C98BA-FE96-4ECE-B5F3-4A2DEBC608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