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06508"/>
        <c:axId val="60151829"/>
      </c:barChart>
      <c:catAx>
        <c:axId val="55306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51829"/>
        <c:crosses val="autoZero"/>
        <c:auto val="1"/>
        <c:lblAlgn val="ctr"/>
        <c:lblOffset val="100"/>
        <c:noMultiLvlLbl val="0"/>
      </c:catAx>
      <c:valAx>
        <c:axId val="60151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06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69E-5069-49E6-B4A5-A349CED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215-415A-4462-A5E1-4663D01C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AF9-72F4-4F2A-9300-92291B22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40B-8E87-423F-A4F8-46AC43A7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D57-7EDC-4530-9516-1B66D73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089-2159-45EA-BDC8-0604D34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B1C-99CF-426C-AD09-653B0D8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A2E-EF7C-45F8-967D-7FB4052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293-2B9B-4EFD-9EB4-0FB6478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F0F-2FBB-4D1D-A274-6BD16E9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D14-B41E-4E12-A97D-3417657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5E1-9B69-40E6-9780-853F529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99E1-0175-49E5-97D0-E4924F02D1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