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33177"/>
        <c:axId val="79255963"/>
      </c:barChart>
      <c:catAx>
        <c:axId val="61033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55963"/>
        <c:crosses val="autoZero"/>
        <c:auto val="1"/>
        <c:lblAlgn val="ctr"/>
        <c:lblOffset val="100"/>
        <c:noMultiLvlLbl val="0"/>
      </c:catAx>
      <c:valAx>
        <c:axId val="79255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33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064-4BCF-42C9-A0A7-2A11E80D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005-C471-4A6E-A0FE-FC61F2C3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5AE-D173-4D0B-BA36-00310932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519-6D7B-4221-841D-227D9937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9A9-865F-4CF0-9E3F-FEE9A944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D0D-36EE-4D7F-AA25-7246E178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C1B-D489-4FCB-A5E1-4E722894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4D0-67E0-4AC6-92A5-5E586EBF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1E9-9E6C-489F-AC56-7B7BFF2E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52E-4FC6-415A-83A6-8877DF88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B2E-6711-402E-9F4A-CAAE40CB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7BE-3EF4-41AA-BCD1-DCB8BA0A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90AA8-1EB0-4ED0-9691-48472160D4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