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35F2-D690-4CE2-A92A-BAD79DD20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D779-6B03-4F84-8A75-BFF4EF55E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1C5D9C-195F-4E22-B44A-C897A03C2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9D7422-AA6B-4307-A55C-76EA399C2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485C54-B53D-498B-9567-7184A3737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3012C0-CDF2-4EB7-BEE1-15893E44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5B1393-F936-4056-8E6D-18D10817C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C853A7-7C11-404F-9DFD-112FC78D7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F1A662-B616-431D-A034-C8F3E6B2D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ECA153-E288-42A3-95CB-55BB2512E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C1281F-8246-408B-96F7-249CECD67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075378D-D8FB-46F4-B991-043F2BACC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F11D-5B32-482B-B837-B132142EE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C94C578-C935-463D-A356-73FBF22C8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B1CB38D-17F5-4268-8C0C-92867028D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57789B2-1E15-4B5B-8840-C9FCF53DB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3F025D3-9CA7-4BA0-ACA3-22B471562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366006B-3680-46A8-94EA-7D49A405D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E64ED0C-4606-4AE5-9498-69FE93687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B595789-1C31-498A-BE41-CA9D10AFB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60C48C0-4730-4494-B905-6EEFB5576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A7112DE-5F6E-4493-BF12-8B50B8662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10CF204-02B3-4A2F-8A7C-933BD5127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888C-3598-498B-AC79-062CECAB3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D74F362-BCA1-4F36-B278-ADE171094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9D58BD-A9F9-4BBB-9840-B05E09117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F8D059-5425-4031-9FEE-EB0DFE72F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0F03D2-AD70-49FA-A58B-F2E2E06A0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9890AF-505C-4301-928A-E9CA72D27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61D7A0-0955-4DD2-8D45-FD8B07209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82C32C-3114-490E-AD5F-116FBAD40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8476CA-F344-440E-98E2-6DA35C69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AE6A47-A027-42B0-8A5F-3BBFC0698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6B0295-7552-40AC-BBB5-849620F4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234A5-AE6A-434B-9E19-3D2CBBF13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E56859-D965-4378-B416-ECF5FE278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4F890F-FAAC-4867-84AB-5BADD3D9D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BA4C44-642C-48AD-B53D-9A08923BB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D5EC83-33D4-412B-BD2E-52E381DE8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F119EE-585D-4F82-B19E-7C53A6CBE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830752-E00D-433F-91F3-52BF26829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AE84F7-B9C6-410D-A66A-447A25588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628B1E-804C-40D1-A30F-01A8A5743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01859C-8F35-436E-BDB0-C0BCBA378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B703B1-4CC7-4F1D-90C5-B702F843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31D31-3CDB-4888-A040-F4193B1FE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3A5E36-834A-475B-8B33-4207E72B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7817A6-5A7B-4A51-BC4E-B56EC7CE3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EA52C5-DBE2-4392-8E25-F9D4279F1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9F0B0B-AC10-4D84-B85E-F0C4AF21D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891EB2-FD89-4A5F-B1E8-05E0461A8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83483-51F2-41D0-8B24-BA770844C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07FB5-12B0-45E4-A141-D23B4E9C8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5FDEF-2F4B-41C2-8CB6-D4AB610A3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14450-4839-4CF0-9581-1A5EFA51A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B5455-356D-4DCE-BCE7-585C00168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F3E0-E3B8-443C-820D-537F29CAA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15810-8A72-42BA-8E57-285FD408A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A38C7-4D71-4EE4-85FB-25B810ECE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F99F9-BD9C-4D8F-8CC0-0F080F620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83A56-F9DE-4338-92A9-DEB5AC5CC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2441D-885C-4675-97A4-D37EBB55D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D51BC-7193-448B-8112-728D689F8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F056C-20CA-4526-9F20-CD90067B1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47605-A13B-4E6C-BDBA-E7D264E51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53362-C444-4886-B9AF-1FFFF946E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53806-C8AC-4B9E-A8B9-221F62C1D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CE09-301E-4F5D-B1C8-0D7BF0E5E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A5B7A-638D-4CC1-A8A1-884571276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57B0E-2102-4197-B9E3-03150CBB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02D56-8F50-454D-B8BA-B32D226CA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01DA8-CA43-401C-AA27-C4A04C66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AB5B5-8512-42B5-A27D-01800C659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AF4DD-89BF-4B6F-9798-C194D9EBA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A22CC-8615-413C-9374-E58ADEA06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511EB-CDC1-4495-AEF2-BDBC3DE14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B7C4A-8FA2-4312-BB25-5A53150F1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671E2-F4E8-49B5-B795-D5EB629D5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A181-47E8-40FB-BF5C-1405A9068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9F5AC-8153-4B53-A71B-B16A62671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DB7B3-33BF-4FF3-867C-C3734BA6C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64B66-8C3A-4A50-B41A-9E9C6BDE6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1F837-33CE-4644-9611-02AD3814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1A1BF-D051-444F-9BEE-5DA99A1D8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D68FC-7C4B-4D48-8C74-2F957ED55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EC291-DD3A-4097-840A-452C9BFB7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72628-8863-4CF0-9218-F51C00876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EC136-C5A0-4302-95A2-45EC27905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488390-7D2A-45D7-B8CF-747D01FD6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B3DE-6D67-46E0-9221-CAF3BD13B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2EC59D-8026-40AE-9B17-4A5FA6F8C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F7FB26-E442-4DFA-ACF2-8ABD84504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D53072-6FDC-4775-A678-25899D499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BC0A19-E04E-4FC8-A233-9AE165EEE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238866-F3AF-47A3-B13D-83F7421D2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EAA91B-FC27-4673-9AC0-68A06558C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414692-4053-4927-B903-F48ACB14A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2335A3-85FA-47D1-A6B5-952F3F18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B4BA6B-A64A-4393-8761-20D840CB1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C6AE19-B55A-42C1-8390-19F8C745F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C3DC-BF74-41D0-B581-4F07B6934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810DDD-DEB1-4B91-89E4-C0989FEAE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F4C922-B6A9-43E8-9402-4F6C0822F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422BF8-0943-4E94-8CAF-6D8469524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EA40A7-070C-4871-99CF-877CFF72F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547D44-DEB2-4F77-8870-799D016B0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92F38B-9F74-4250-9BA8-7D9AC3FB2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C1A828-925C-4167-94E4-3A17B1489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E7B13C-EA3C-4F7F-B217-BA3494AE6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1DD019-E145-4021-BF94-7D28E8C4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E67EE9-C7B9-4D50-89AB-444DC8D1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91FE-7984-470E-8730-B673EDB6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0E78A-F5B5-4639-B342-266CFCF30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235EE-2254-4FBD-B127-B548B0F95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48FA03-78FC-4DC9-9C4F-46CD33F9A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83148D-0D35-4CB1-8A90-FA9DCA099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A57777-FAA2-4173-8C89-1E0D4B0D5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7A43D4-886C-47B7-8225-F6C03658B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B69545-54C0-4CFC-AD6F-F7788D0EF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AC3FBC-FB53-4F0B-805F-7F1FF3477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27CFF4-B306-4E00-BEFB-CF2A20D92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EBAE58-C537-4A24-9922-E74B8B157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45EE-D0D4-470F-BA26-EC63B00BB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FB40CE-C0CE-4F1E-82B6-444B838F3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2055DE-0B40-47B1-8F8E-32BE5A3D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16DC6D-8D9E-41C5-8B10-CD3D6D69D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96CA0F-1F8E-400E-A366-9917B8C8B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BEB632-C049-436B-A02D-CC501C93A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7600AC-7E7F-4E16-A24E-6C496EAB1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A329A4-EA85-4EAC-BF71-898073156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3B915E-41BB-4BA9-A956-893BBBE12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36C1B7-FFD1-4130-BCB0-1C40357D5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829223-B676-4A76-8F7B-E14B32A88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16D1-8748-4A46-92C6-87A3AFA7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F853AE-80BD-4DE1-A4B0-3862CB9FB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54E39B-D559-4BCF-98FC-CEB1E847A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00A382-216F-4473-BF9B-E1B06ECC4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83B46D-C95F-490E-A90A-F3F34D02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4FB244-E6C7-45B7-AE0D-F074CB5B3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A0F365-9147-471C-8801-C8500F2A5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BD44A8-7600-4C10-820D-110D56E5E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D51592-1F6A-4414-A7C7-0B72CCAAE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B03B04-4A91-47BC-BD9F-BF2105094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5E3421-7D3A-4C61-9F37-0B5D27320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7DE84-91AD-4701-A7C3-CFA5BDD2A41B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CD2B3-A54A-4CDB-A7AF-81375292EAE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2E6A2-911D-4342-BB4B-4B727D59F5F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4B41E-F5BE-4664-A3E1-9265DA35C4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69AB7-E19B-409D-8B9B-AEF6C05A1763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627DE-B44C-4B59-B977-0BF9D5191CEF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C019A-B598-476D-9D72-3EB3E836F27F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5CB6A-66E4-4280-B582-9ED3ED24A9F2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32AEF-D778-4A59-AB10-BD0292C273A2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0F595-AEB7-4DDD-9D92-AC25F06D103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27C70-5C2F-4F3D-815F-20C04E5948C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F8DA1-B234-4E21-BE98-DE8759A0E4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E7343-8FFD-4590-AF79-51B12D0CC6F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75A4D-FBFB-4307-B79B-742B0653A3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00F24-5FA8-4AB9-A85B-416EB57657F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8C6F9-9C22-4523-9067-EB79BF795BED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17706-39EE-4F6B-9A43-094DBE77B032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FF663-72C1-4533-8D8C-C1CF39232DA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7CBC3-EEBE-42DD-A3A4-0D9401666004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41BDF-4986-4CF8-BEF0-81F47B426AB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40E3F-7D08-498C-B30A-405B7464A06F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575EA-5302-484D-86A2-1DA68C02C44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BF303-E2B1-484F-B23A-361AD4C3C03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9A07C-0C9B-446C-BCF8-702A3EE345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751C-B32F-4615-B21A-6C103ACC73B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860B17-4C08-4B90-83A5-5DBC16C1C399}" type="datetime1">
              <a:rPr lang="en-US"/>
              <a:t>07/29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1A36CC-0FCF-4C11-89B9-5B31CF67954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4291BB83-0A4B-490D-9D4B-6A28F20244C7}" type="datetime1">
              <a:rPr lang="en-US"/>
              <a:t>07/29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7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barn(outHorizontal)" transition="out">
                                      <p:cBhvr additive="repl">
                                        <p:cTn id="121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8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4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0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CC20B-D052-4867-913B-25862D078361}" type="slidenum">
              <a:t>3</a:t>
            </a:fld>
          </a:p>
        </p:txBody>
      </p:sp>
    </p:spTree>
  </p:cSld>
  <p:transition>
    <p:comb dir="horz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0"/>
                            </p:stCondLst>
                            <p:childTnLst>
                              <p:par>
                                <p:cTn id="19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FB9639-C471-4079-A619-2E3436C998D3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11904FFE-28E2-4D22-BB94-DD1B50AE41C1}" type="datetime1">
              <a:rPr lang="en-US"/>
              <a:t>07/29/26</a:t>
            </a:fld>
          </a:p>
        </p:txBody>
      </p:sp>
    </p:spTree>
  </p:cSld>
  <p:transition>
    <p:wedg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4000"/>
                            </p:stCondLst>
                            <p:childTnLst>
                              <p:par>
                                <p:cTn id="2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6000"/>
                            </p:stCondLst>
                            <p:childTnLst>
                              <p:par>
                                <p:cTn id="2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1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8000"/>
                            </p:stCondLst>
                            <p:childTnLst>
                              <p:par>
                                <p:cTn id="2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5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5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D42A02-0DF0-4A08-B35D-60BD93A4A3F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7124F418-3FCC-4C68-841C-FC38E2CE1B79}" type="datetime1">
              <a:rPr lang="en-US"/>
              <a:t>07/29/26</a:t>
            </a:fld>
          </a:p>
        </p:txBody>
      </p:sp>
    </p:spTree>
  </p:cSld>
  <p:transition>
    <p:wipe dir="d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3000"/>
                            </p:stCondLst>
                            <p:childTnLst>
                              <p:par>
                                <p:cTn id="27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4000"/>
                            </p:stCondLst>
                            <p:childTnLst>
                              <p:par>
                                <p:cTn id="28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0"/>
                            </p:stCondLst>
                            <p:childTnLst>
                              <p:par>
                                <p:cTn id="29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000"/>
                            </p:stCondLst>
                            <p:childTnLst>
                              <p:par>
                                <p:cTn id="30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7000"/>
                            </p:stCondLst>
                            <p:childTnLst>
                              <p:par>
                                <p:cTn id="30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9000"/>
                            </p:stCondLst>
                            <p:childTnLst>
                              <p:par>
                                <p:cTn id="32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8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0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5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8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0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C832DA-B8EE-4067-8BFC-12A4D9D8DD4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0C456162-ED18-4F13-96B0-CD2FF29E2CB2}" type="datetime1">
              <a:rPr lang="en-US"/>
              <a:t>07/29/26</a:t>
            </a:fld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5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6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9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4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5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