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24C68-EF9D-48C9-803A-20449A6A5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783A5-081D-4481-B21E-8D3038B21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CA4FC-91FB-40B6-B871-7BB412E5E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94DD5-6E07-4C0A-8A3D-1B7418E66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918D5-DBDC-4B1D-870E-21166BC5B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45F71-19A3-4725-9614-F750A1188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DCE74-D0EF-4F0C-AD48-C2D16750A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264BC-0BB2-4D48-851C-E621BEB77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9A31F-AA4A-4928-87DC-070159E91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824A7-42C6-4AAE-96BC-16D57EDFE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F0EBA-8FFF-44D0-86A3-42F0B2477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001EB-017C-461E-8939-D6EB42F3C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A5B4C-9C71-4705-94A6-583FBCCA0909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uturnArrow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-Tur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066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99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124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Strip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899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Notch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lef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hev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rightArrowCallout">
            <a:avLst>
              <a:gd name="adj1" fmla="val 25002"/>
              <a:gd name="adj2" fmla="val 25000"/>
              <a:gd name="adj3" fmla="val 33335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eftArrowCallout">
            <a:avLst>
              <a:gd name="adj1" fmla="val 25002"/>
              <a:gd name="adj2" fmla="val 25000"/>
              <a:gd name="adj3" fmla="val 33335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upArrowCallout">
            <a:avLst>
              <a:gd name="adj1" fmla="val 50007"/>
              <a:gd name="adj2" fmla="val 50003"/>
              <a:gd name="adj3" fmla="val 16667"/>
              <a:gd name="adj4" fmla="val 666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downArrowCallout">
            <a:avLst>
              <a:gd name="adj1" fmla="val 50007"/>
              <a:gd name="adj2" fmla="val 50003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ircular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95280" y="620640"/>
            <a:ext cx="6264360" cy="2952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leftRightArrow">
            <a:avLst>
              <a:gd name="adj1" fmla="val 50000"/>
              <a:gd name="adj2" fmla="val 3981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0:52:08Z</dcterms:created>
  <dc:creator>tb121644</dc:creator>
  <dc:description/>
  <dc:language>en-US</dc:language>
  <cp:lastModifiedBy>tb121644</cp:lastModifiedBy>
  <dcterms:modified xsi:type="dcterms:W3CDTF">2005-05-25T10:52:24Z</dcterms:modified>
  <cp:revision>1</cp:revision>
  <dc:subject/>
  <dc:title>Slide 1</dc:title>
</cp:coreProperties>
</file>