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65896"/>
        <c:axId val="63038446"/>
      </c:barChart>
      <c:catAx>
        <c:axId val="49665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38446"/>
        <c:crosses val="autoZero"/>
        <c:auto val="1"/>
        <c:lblAlgn val="ctr"/>
        <c:lblOffset val="100"/>
        <c:noMultiLvlLbl val="0"/>
      </c:catAx>
      <c:valAx>
        <c:axId val="63038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5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CD1-CB43-447A-9037-540A7E6C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612-3B58-40C5-B9A2-DBBEE8DD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DC7-992F-4886-8488-D25F1C44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9AC-7C65-42E7-BF3F-28C195C6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56D-F863-4606-9DF7-66A50692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212-353D-475E-A23B-4D46DAEB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5B8-57AF-475E-A296-5F651CB2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D36-AFAC-4A1D-9F5D-B0761FD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36F-2040-4BDC-8EDF-62C12D51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31D-E52C-4C6E-BEE1-B2303B7F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2EC-4054-48A3-9351-81B7332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2C7-1454-4571-9C0C-977201E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B1E1E-54BA-46AC-85C4-05563D911C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