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95317"/>
        <c:axId val="43506376"/>
      </c:barChart>
      <c:catAx>
        <c:axId val="98895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6376"/>
        <c:crosses val="autoZero"/>
        <c:auto val="1"/>
        <c:lblAlgn val="ctr"/>
        <c:lblOffset val="100"/>
        <c:noMultiLvlLbl val="0"/>
      </c:catAx>
      <c:valAx>
        <c:axId val="43506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5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3B1-9801-448B-A154-115E72CA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962-8808-45FE-9952-03FD7B92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701-F45B-44A5-88C9-AA5FA70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C90-DAF2-4870-B2DA-027C51D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2BA-BA83-4F53-ADCF-9E5B043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6B3-8F06-4E5E-9CA4-AADAE113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66A-8308-4E9D-9288-4E097D3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542-E3CE-45A3-A912-8858FC8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D47-1DBB-435C-8FDD-72110B70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943-1881-4CC8-A78F-888475B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2EE-9FEF-4236-A69F-2AC5C2F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26C-89A4-4BDA-8EEA-4896BA6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24AE2-8F22-4CBD-8FD3-EFA5B5157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