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21697"/>
        <c:axId val="65698350"/>
      </c:barChart>
      <c:catAx>
        <c:axId val="363216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98350"/>
        <c:crosses val="autoZero"/>
        <c:auto val="1"/>
        <c:lblAlgn val="ctr"/>
        <c:lblOffset val="100"/>
        <c:noMultiLvlLbl val="0"/>
      </c:catAx>
      <c:valAx>
        <c:axId val="656983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216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F599-7048-4A2A-8840-8D90EFAC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4892-2B0D-4FE4-99B4-631CDB02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7588-8C59-46EC-A140-1C66E4DF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17F-0793-4F56-B19C-214DA3F8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DA64-1DB9-407F-BE13-AAEE5D4E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C7DB-7314-42D8-8E2E-5FD6742E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CA11-282F-4CFA-A0C9-3AC64D43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31E7-FAE3-4C47-9D44-1BBADE1F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7069-5761-422F-8E6B-B3699639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F932-396F-4051-A7E8-1D70BE7E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6444-9DB7-4773-B2D4-523ACED9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25F2-EF54-4FA8-A175-0BE97F66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CCF5E-673C-4241-A3A2-5802C89207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