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911580"/>
        <c:axId val="27484241"/>
      </c:barChart>
      <c:catAx>
        <c:axId val="699115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84241"/>
        <c:crosses val="autoZero"/>
        <c:auto val="1"/>
        <c:lblAlgn val="ctr"/>
        <c:lblOffset val="100"/>
        <c:noMultiLvlLbl val="0"/>
      </c:catAx>
      <c:valAx>
        <c:axId val="274842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115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F39C-45DF-4736-9656-D3BCBF762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404B-A3AC-4944-A043-74741149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541F-F866-46A7-9CCE-99D3760F4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2D87-2549-4363-8B2B-B384DC9C2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744E-9AE3-4EC2-8B9C-9F61051B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4835-24DB-4986-93ED-EA87AD3C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9D6B-5D2F-4DC2-9C47-C5A27A05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DD94-40E5-413D-94A3-94336B9E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DA3C-DB00-4EAF-B5B4-33372109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C5E3-1D7A-49F4-99C6-4F679B9F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FEF0-7DB0-428D-B434-DE953414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A7DC-5312-4349-B93D-2DF2D4B4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ED864-CCB6-4B9F-A9E3-700BF7E65D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