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3666"/>
        <c:axId val="49926304"/>
      </c:barChart>
      <c:catAx>
        <c:axId val="15436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26304"/>
        <c:crosses val="autoZero"/>
        <c:auto val="1"/>
        <c:lblAlgn val="ctr"/>
        <c:lblOffset val="100"/>
        <c:noMultiLvlLbl val="0"/>
      </c:catAx>
      <c:valAx>
        <c:axId val="49926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36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9F8-E1F8-44A6-871F-5B8B5B32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24AD-A2EB-4F6A-91AA-8DAC0BDA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BC15-FBB2-4E65-B373-9AB7CD58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F547-51DC-4EB4-BF0B-986E8BDD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787B-C6FE-4EA2-8A60-D47C690F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F1BE-D42D-462A-9CBE-6A4ECAEB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DCA-20BE-44A2-9CE8-6A9B1061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332-8D72-49B5-9CD6-59DF299A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0672-B753-47E3-A427-1684BC05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2D6-8EE4-4012-AFB8-5CEC1348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66A7-56D0-4C02-A546-C0F2BB69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44C-9D09-4836-84DA-B6F4DB2D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B7A5D-7FF7-463F-8B5F-89CCBF1AF7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