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6696"/>
        <c:axId val="85280279"/>
      </c:barChart>
      <c:catAx>
        <c:axId val="1426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80279"/>
        <c:crosses val="autoZero"/>
        <c:auto val="1"/>
        <c:lblAlgn val="ctr"/>
        <c:lblOffset val="100"/>
        <c:noMultiLvlLbl val="0"/>
      </c:catAx>
      <c:valAx>
        <c:axId val="8528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6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562-3C6E-44D4-80D1-D25F8660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6E9-CD0D-42B1-B0F3-2F53956A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D55-739B-45D4-BED3-18C16CCE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561-9E25-4BCF-91CB-34A32BCB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9C7-38B4-48D7-9DFC-32198E26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710-F6A7-4272-BB5F-EF958E5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0FD-F4F8-47AE-959F-429262F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662-8450-4E5E-ACD3-37CB4819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AC6-A66C-49F6-957F-F567EB18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2BE-4F35-4E70-92D5-AADB205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42D-F43A-4229-B2F6-8515AAB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267-BD23-4562-8769-E3D286C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960D7-E79E-4EC1-885F-45D71B88B5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