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71387"/>
        <c:axId val="86832720"/>
      </c:barChart>
      <c:catAx>
        <c:axId val="64171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32720"/>
        <c:crosses val="autoZero"/>
        <c:auto val="1"/>
        <c:lblAlgn val="ctr"/>
        <c:lblOffset val="100"/>
        <c:noMultiLvlLbl val="0"/>
      </c:catAx>
      <c:valAx>
        <c:axId val="86832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71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A06-328B-4627-AB42-C4526114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EE8-3FE5-477C-90AB-842DFFE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F67-53BA-46DE-9A2C-EA944293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031-BF7D-453D-8948-3CFE4E09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F5D-5EFA-4B01-A00B-6200E9D9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322-F5CD-4F56-AC0E-D1D5447A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7A4-4D1D-4E2F-B3D9-F17EF411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DC9-1512-4070-B63E-F2B2C215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9F2-EFF8-474C-A68B-4518ECA6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FD6-89D0-49EB-97B1-E1326C5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6D4-BE8E-4EDD-99FF-32D6A69A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7CC-8505-49E6-8D14-12198E9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F4B26-475A-4722-A3A7-3FB32FED15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