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99742"/>
        <c:axId val="10746243"/>
      </c:barChart>
      <c:catAx>
        <c:axId val="19099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46243"/>
        <c:crosses val="autoZero"/>
        <c:auto val="1"/>
        <c:lblAlgn val="ctr"/>
        <c:lblOffset val="100"/>
        <c:noMultiLvlLbl val="0"/>
      </c:catAx>
      <c:valAx>
        <c:axId val="10746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99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2F8-1CED-4161-ACE0-8B0D403B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847-50B7-472C-9CA1-3EAC8F1F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88D-E763-4467-B862-44C0DD5D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739-2D3B-4882-BE22-0EB921D3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55F-0093-439D-8164-4E3E2197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D9E-1E2D-4BD7-B017-DA835464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63E-D29C-48B7-A043-5529B891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C10-F7CD-4728-8A47-C9993614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BBA-7D98-473C-AE17-7405059F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B34-1A26-4BDE-AC0B-07C0706B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C81-0A4F-4FDB-9FDE-14271BDD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106-5374-46D2-8C59-5BD35BA6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5C1F0-B9EF-42EB-A6DF-B09B4DE9A2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