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81127"/>
        <c:axId val="34646707"/>
      </c:barChart>
      <c:catAx>
        <c:axId val="54381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46707"/>
        <c:crosses val="autoZero"/>
        <c:auto val="1"/>
        <c:lblAlgn val="ctr"/>
        <c:lblOffset val="100"/>
        <c:noMultiLvlLbl val="0"/>
      </c:catAx>
      <c:valAx>
        <c:axId val="34646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81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C14-FEEC-474F-A6A5-4B547615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C7E9-BAF0-49BC-9509-C14906B1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7C6-8868-46F4-B705-4405C516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283-CAE0-4C2E-BBF7-9ECD7B4A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C117-9624-4A12-80E5-D7DFA17F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99C-0AB5-41A8-A9A6-E6446FA4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777-7855-409B-AB64-89C091CF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F80-2BBB-45D6-B3A6-ED1C75C9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1358-DB0F-4A4F-836C-A816B0CC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828-41A0-458D-B802-42033954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B9B-1D9A-484D-AF58-D3B0369E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5AD-D6AC-4B3B-9C62-AB6C6CBB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32250-A665-4AAD-BB46-828BDA1B53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