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58824"/>
        <c:axId val="72214603"/>
      </c:barChart>
      <c:catAx>
        <c:axId val="68258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14603"/>
        <c:crosses val="autoZero"/>
        <c:auto val="1"/>
        <c:lblAlgn val="ctr"/>
        <c:lblOffset val="100"/>
        <c:noMultiLvlLbl val="0"/>
      </c:catAx>
      <c:valAx>
        <c:axId val="72214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8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7A7-B0A6-44EB-9407-B759A13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AF0-01C5-4C77-B233-34650FF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6E2-DF8B-4A24-AB37-0D3E8210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B29-4119-4BC3-9A8E-79BE280E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7D5-254E-483F-8469-3C4C3E3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16C-D05A-48A8-A5E6-983ADB3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E84-3820-4B9D-BD91-7CBD8F2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B69-11E8-49DF-8E9B-78BC7FC4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9DB-EBD3-4A0F-A487-7731F49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B39-868C-4BB0-B906-405C049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7FB-1520-4C76-8D33-54AC7F8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EE0-7956-40F6-9498-BFB11CD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2442D-26A7-4AFB-832C-71A388B0B8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