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567"/>
        <c:axId val="44301413"/>
      </c:barChart>
      <c:catAx>
        <c:axId val="781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01413"/>
        <c:crosses val="autoZero"/>
        <c:auto val="1"/>
        <c:lblAlgn val="ctr"/>
        <c:lblOffset val="100"/>
        <c:noMultiLvlLbl val="0"/>
      </c:catAx>
      <c:valAx>
        <c:axId val="44301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100-DF25-4CC6-9812-2AB58E9F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3E6-31D9-4CD3-BB59-E2D8F712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742-99C2-413B-972A-819335AC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B78-AD49-4BFB-ADA5-B6844B9A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3E5-8028-49DB-BC46-EEA4A038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51B-7C63-4770-9DE9-B2D3F77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DCDD-276D-49A0-94A9-0B604E68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060-B7E3-4561-9F6F-2BAF9496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B55-087F-4F3C-A4D7-4D9C07D9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8CA-12EA-4609-B3AA-DEC42E36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87A-D549-43F2-9EB8-B69D6572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63D-DC11-4859-A6A6-13263A52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73F18-5AC8-45F8-BDAD-45F331535A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