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38092"/>
        <c:axId val="12389755"/>
      </c:barChart>
      <c:catAx>
        <c:axId val="80538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9755"/>
        <c:crosses val="autoZero"/>
        <c:auto val="1"/>
        <c:lblAlgn val="ctr"/>
        <c:lblOffset val="100"/>
        <c:noMultiLvlLbl val="0"/>
      </c:catAx>
      <c:valAx>
        <c:axId val="12389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38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3BF-30EF-46D9-A401-5FBD3F81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688-4BEC-4CA4-ADE1-F1CB5FB0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1B8-0683-4725-A51D-8A1D5E5A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057-2F67-46E9-B07E-834BBED0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4EB-4008-4DDA-86EC-7023BE40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E67-694C-42BC-9AE1-A4E88D28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9E7-0B77-4EF7-AE19-A500D54A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294-84F0-4C8B-ADF8-9A46C4D0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F8D-1CBA-4B7D-AF5E-5C75DDF4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158-11D9-4886-9FB6-6494A3E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B40-039D-4783-983E-A6018840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A1C-1A58-4606-9E1B-3AF46A1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F0F4F-14E3-4CA9-AEC4-48FF901C17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