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105398"/>
        <c:axId val="60372607"/>
      </c:barChart>
      <c:catAx>
        <c:axId val="891053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372607"/>
        <c:crosses val="autoZero"/>
        <c:auto val="1"/>
        <c:lblAlgn val="ctr"/>
        <c:lblOffset val="100"/>
        <c:noMultiLvlLbl val="0"/>
      </c:catAx>
      <c:valAx>
        <c:axId val="603726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1053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48EB-0E8A-4894-81D9-73960B2DC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1891-A471-4C54-B128-CA5CA5AC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5B02-8583-4D9E-93F7-6E0ED7D21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99AF-A616-4BC6-8D53-9EE304DD1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62E7-EC9F-4848-8F8F-ED450DB4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4510-9E8F-4CAA-AFE2-C0E20084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CE39-B224-48B3-B771-E5FC657C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3C38-20D4-4BA7-87F5-47C25A4C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2E80-63F8-485E-9B64-D2C05C07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DDEE-AE44-4ABF-9842-825DC6FA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95A6-26A6-41FE-9366-2B0022C2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94F3-0FC2-49D9-B122-6D0E6389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B5EAAA-ABCE-4932-AAE6-12DFE7B57E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