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50034"/>
        <c:axId val="24810676"/>
      </c:barChart>
      <c:catAx>
        <c:axId val="62050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10676"/>
        <c:crosses val="autoZero"/>
        <c:auto val="1"/>
        <c:lblAlgn val="ctr"/>
        <c:lblOffset val="100"/>
        <c:noMultiLvlLbl val="0"/>
      </c:catAx>
      <c:valAx>
        <c:axId val="24810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50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260-2B2F-429C-AB3E-6945BA76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3E8-3E18-4F93-A61F-AAABA0F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474-F277-4E48-83A6-F2739967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8B2-2B23-496B-A2D3-0EDBF095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871-7BEE-4A53-9837-D51FE653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BC4-3F17-49A2-A7CF-8F2E2C03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637-0081-4F29-81C6-AD67530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06A-2AA5-4D43-9105-EA329570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FB4-357D-479E-85A7-5A652DB2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82F-4184-4ACA-8465-0BCDD22D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C4A-42E7-4ECA-A90C-FF47B9A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E5F-347E-4310-877F-9721858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9B434-A2E0-4630-8A94-51790AF97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