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33141"/>
        <c:axId val="29270595"/>
      </c:barChart>
      <c:catAx>
        <c:axId val="78633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70595"/>
        <c:crosses val="autoZero"/>
        <c:auto val="1"/>
        <c:lblAlgn val="ctr"/>
        <c:lblOffset val="100"/>
        <c:noMultiLvlLbl val="0"/>
      </c:catAx>
      <c:valAx>
        <c:axId val="29270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3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52C-0DD8-4F84-A46D-F52BBF0A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548-64D0-4213-A321-2B8F411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5B9-062D-4A58-9317-A72107EB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160-EA7D-4096-AA4F-16ECE1C5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66C-0C9E-4D36-A42C-8F4B030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B5D-CB4D-42E6-80D7-BAA7662E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967-F44C-4949-92B9-4F39ADAD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F41-C4B3-4D51-9865-72B01E4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73D-68E0-4D5A-9163-8B53B81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D1F-8F03-4BB6-8D40-6E761FB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978-630F-493D-9D4E-AA147DB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DB0-24E3-4565-AEA7-AD16E18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41E52-B43A-4DF0-A9CD-C926284EA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