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79201"/>
        <c:axId val="96208349"/>
      </c:barChart>
      <c:catAx>
        <c:axId val="68179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08349"/>
        <c:crosses val="autoZero"/>
        <c:auto val="1"/>
        <c:lblAlgn val="ctr"/>
        <c:lblOffset val="100"/>
        <c:noMultiLvlLbl val="0"/>
      </c:catAx>
      <c:valAx>
        <c:axId val="96208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79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600-044E-48FC-896E-4E1B3D11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240-7E7D-4983-AADA-FC53CD1F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3DC-AB0D-470D-A8CC-636402D0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38D-0A5A-4772-8825-5211E75B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8C4-231E-4B4C-85CA-B47C847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526-557E-45B4-B676-2FEF63EF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770-923D-47AB-8B8B-531D62B4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1BF-40C9-4DF7-8F24-408695F8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0B5-8BF6-465A-980F-65B1B0CE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964-5B7E-4C9F-887A-FE8879DE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F4C-8DCB-4CF0-9796-5B5734D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DAF-5C48-42C6-9E52-55ABC3FD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C1C33-4177-4C36-AC3C-A0E1F953B1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