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51358"/>
        <c:axId val="1447768"/>
      </c:barChart>
      <c:catAx>
        <c:axId val="86451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7768"/>
        <c:crosses val="autoZero"/>
        <c:auto val="1"/>
        <c:lblAlgn val="ctr"/>
        <c:lblOffset val="100"/>
        <c:noMultiLvlLbl val="0"/>
      </c:catAx>
      <c:valAx>
        <c:axId val="1447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51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5EB-6176-4300-84E7-D5B15C9F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E68-A70C-40EF-AE50-CAF3CA20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A03-362E-4F00-9CFA-0666F0E4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10B-F606-43FD-B32C-A484E7D0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08F-12F0-4474-AE2B-39E7731D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24A-92D8-4AE6-8C83-357F8963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AF4-9CDD-436F-B294-F7113A17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70F-98C5-4A8B-A50C-3892CEF5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419-1A82-4AC5-9273-EC648E7E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9AB-D3A3-4FA6-9662-24668B43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D6B-8B4D-4552-992C-E8B1029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92C-766F-4C47-9CDA-C4C4A4C5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259B7-AB7C-4B2D-A857-0D9A5FE409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