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89646"/>
        <c:axId val="77600427"/>
      </c:barChart>
      <c:catAx>
        <c:axId val="46689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00427"/>
        <c:crosses val="autoZero"/>
        <c:auto val="1"/>
        <c:lblAlgn val="ctr"/>
        <c:lblOffset val="100"/>
        <c:noMultiLvlLbl val="0"/>
      </c:catAx>
      <c:valAx>
        <c:axId val="77600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89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259-A38A-4D80-871F-1489935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1D3-5228-4CB2-8F9A-B05A8CA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2D8-3BBC-4B32-8693-4893D9D1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2A3-FC8C-486D-B6D3-24B30C3F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E80-40F1-4E02-A063-CE90612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D48-66C0-433F-A689-A25CE72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711-3707-48B7-92CE-DC96BE3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AE9-775E-4C7A-9520-B3CCEF4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4BA-1D05-4815-A45B-0DB6E20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083-FAEA-44DF-B29C-A9C7C62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AEB-1038-4337-AB41-2B7B3B57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011-4B7F-4E98-A19E-9CA9BFB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A5334-ED92-489E-B42C-41E0E3CCE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