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34746738"/>
        <c:axId val="68608045"/>
      </c:barChart>
      <c:catAx>
        <c:axId val="3474673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8608045"/>
        <c:crosses val="autoZero"/>
        <c:auto val="1"/>
        <c:lblAlgn val="ctr"/>
        <c:lblOffset val="100"/>
        <c:noMultiLvlLbl val="0"/>
      </c:catAx>
      <c:valAx>
        <c:axId val="6860804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474673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524A78-F01C-4966-B91C-FB8E4DC7B30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D17774-72FE-4D27-B41C-609B812543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B7178-A96B-4C57-96DE-9140E87EBBE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04ADD-32B0-4E85-83EF-7BE948A57F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D8D81-A892-4216-A0E5-CA4E614BB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BBA23-F990-4D14-BD61-9B59B5DA3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7AF03-9366-4DAB-97CE-E42591A6EE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AE904-9D85-465E-A54D-78C8192F9A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35E29A-DDE4-4438-B0E3-4B8766563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F5DA42-D228-448F-BF9E-462481AF0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C320AA-F3F4-4362-9F43-16BAE081BD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4FAD9-99CA-4975-80E2-55B7388DA1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DABDBCE-4FCA-43DB-A6C6-303A9CE6634C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