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ipro" initials="W" lastIdx="5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<Relationship Id="rId6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9-08-18T15:56:36.562000000" idx="1">
    <p:pos x="539" y="764"/>
    <p:text>Thi is a comment dialog.
Try to access this form the insert option available in the </p:text>
  </p:cm>
  <p:cm authorId="0" dt="2009-08-18T15:57:33.500000000" idx="2">
    <p:pos x="2598" y="3749"/>
    <p:text>This is the second comment.Test to  check the number of comments which can be inserted.
</p:text>
  </p:cm>
</p:cmLst>
</file>

<file path=ppt/comments/comment2.xml><?xml version="1.0" encoding="UTF-8" standalone="yes"?>
<p:cmLst xmlns:p="http://schemas.openxmlformats.org/presentationml/2006/main"><p:cm authorId="0" dt="2009-08-18T15:58:46.218000000" idx="3"><p:pos x="647" y="1037"/><p:text>Commenting in the second slide ,
Test should be done in Koffice to check for the comments

</p:text></p:cm><p:cm authorId="0" dt="2009-08-18T15:59:18.078000000" idx="4"><p:pos x="2832" y="1008"/><p:text>Comment in title and 2 columm text
</p:text></p:cm><p:cm authorId="0" dt="2009-08-18T16:00:07.125000000" idx="5"><p:pos x="637" y="1037"/><p:text>Ths comment consists of characters,numbers and symbols
12345648
asjkjfgasjg
!@$#$&^%&
1a@2a@3v$?>"
</p:text></p:cm>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2074-2D40-49EB-9A2A-2581C705F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CA83-46DF-42AA-8F96-EF51C6D35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F74EC-769C-499B-9AFC-4BE564C81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AB05-AF6E-4618-B855-87BE23C6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9E343-2446-457F-BDC9-855630282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1ECF3-3D64-454B-9493-EB06F3EC9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FA4A-0D86-4585-AFDB-4F3D7C492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FD1F1-C5A4-40DC-B141-5E309B47B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AA8-2301-4473-8A10-B16C67647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C060-FA74-45EC-AAB3-073FE5FE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EB97-2D73-4FD5-B973-F75F8200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FB0D-A96C-4563-9A32-D66EF4BEB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F8DBC-66E0-4208-83E8-37EEC671C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comments" Target="../comments/commen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comments" Target="../comments/commen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slide has two com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is is a Slide with 2 comments with different charact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pro</cp:lastModifiedBy>
  <dcterms:modified xsi:type="dcterms:W3CDTF">2009-08-18T10:31:03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x0003_">
    <vt:r8>1</vt:r8>
  </property>
</Properties>
</file>